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C628-6FDB-46DB-BE82-B9A67649979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rendere accessibili la propria ricerca, e i suoi es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chiarire come i propri risultati contribuiscono all’avanzamento delle conoscenze e (per le ricerche applicative) al miglioramento dell’insegn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evidenziare la scientificità del processo che ha condotto ai risul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potere pubblicare i risultati su Riviste importanti (nella speranza che sia il merito scientifico, misurato anche attraverso l’autorevolezza dei luoghi di pubblicazione, a decidere le carri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9E3-D14F-4A66-9C23-923C89F5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6ED-65E1-4871-B150-42C85B5D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133-778C-4739-93E8-1EC487E1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6C1-1E27-4CA6-835C-3916D77A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93E-80D5-41E4-BF7A-367AF824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EE9-9BE0-4AA5-AFB2-097D2148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7F1-2364-4FAC-9D28-8E66B80B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0B0-DB88-464B-9423-B2418207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CBB-878E-469A-975A-7970E3FE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BF9-1234-437C-9384-E4B17C67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197-D75C-441E-9C38-711017AF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AFA-C38D-4652-B59A-FF193301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F95-C74A-4AFD-BD9F-05AE5E18F9D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FARE RICERCA E PUBBLICARNE I RISULTATI: ALCUNI REQUISITI DI QUALITA'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olo Bo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cuola Scienze Sociali e D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iversit</a:t>
            </a: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i Ge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QUALI REQUISITI DI QUALITA’ DEGLI ARTICOLI SONO ANCHE REQUISITI DI QUALITA’ DELLE RICERCH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bstract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 fornire informazioni sintetiche sulla problematica di ricerca affrontata, sul tipo di ricerca condotta, sui risultati principali ottenuti, con il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Titol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he richiama alcuni di tali aspet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Introduzion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ve presentare il problema di ricerca con le sue motivazioni (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tra cui la rilevanza matematica e didattic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n cenni essenziali sullo stato dell’arte in proposi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 guidare alla lettura dell’articolo con riferimenti sintetici ai suoi contenuti e al suo filo conduttor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Literature review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ve presentare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lo stato dell’arte relativo al problema di ricerc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modi per affrontarlo e risultati principal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Quadro teori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ve presentare i costrutti teorici (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almeno localmente coerenti, o chiaramente complementa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scelti come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strumenti per trattare il problema di ricerca, e. con riferimento ad essi, i significati delle parole-chiave utilizzate;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e deriva di solito la formulazione di precise Domande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 Ipotesi *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ricerca, da riferire - se possibile- allo Stato dell’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Metodo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 esporre il contesto educativo, il design dell’attività sperimentale (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mostrandone la funzionalità a rispondere alle questioni di ricerca con riferimento al quadro teori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, i tipi di dati raccolti e i relativi criteri di analisi,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n riferimento al Quadro teorico e alle Domande di ricerc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resentazione e analisi dei dat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ve essere condotta con i criteri illustrati nel Meto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Risulta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ono evidenziare ciò che emerge dall’analisi dei dati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n riferimento alle Domande di ricer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Conclusion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vono essere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gently argue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ulla base delle analisi condotte e dei relativi risultati, e devono sinteticamente indicare non solo le risposte alle Domande di ricerca, ma anche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gli elementi di novità rispetto allo Stato dell’ar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ul problema di ricerca affron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iscussion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che in alcuni casi può e deve essere unita alla Conclusioni, può riportare valutazioni anche critiche su vari contenuti dell’articolo (risultati ottenuti e loro limiti, metodo utilizzato, strumenti teorici scelti come riferimento, eventuali discordanze da risultati acquisiti da altri); e indicare eventuali, possibili sviluppi di ricer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Implicazioni didattich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ossono riguardare “piste di lavoro” per l’implementazione in classe dei risultati ottenuti, ai fini del miglioramento dell’insegn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VERSITA’ E SPECIFICITA’ RISPETTO AL “MODELLO”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condo tipi di ricerca che tentano di affrontare su base sperimentale il problema dello sviluppo e dell’arricchimento delle ipotesi interpretati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se stud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a specifica situazione viene studiata in modo accurato per accertare quanto teorie esistenti (una o più di una) consentono di interpretarla, ed eventualmente quali nuove ipotesi interpretative che “interrogano” le teorie esistenti possono essere formulate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==&gt;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ossono cambiare l’ordine delle diverse parti dell’articolo, e i relativi rapporti funzional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grounded theory paradig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i dati (quantitativi e/o qualitativi) raccolti in modo il più possibile esaustivo in situazioni reali di insegnamento-apprendimento non condizionate da ipotesi di ricerca, si individuano induttivamente connessioni e si elaborano ipotesi interpretative, che costituiscono i risultati di ricerca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==&gt;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teorie esistenti non “determinano” il design dell’esperimento, al più servono come termine di paragone per le interpretazioni elaborate; il Metodo riguarda i modi (statistici, e/o di analisi del linguaggio, ecc.) per indurre connessioni e interpret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icerca italiana per l’innov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problemi di ricerca sono problemi di insegnamento-apprendimento nella scuola, e per inquadrarli e risolverli si ricorre a teorie esistenti, con la possibilità di adattarle o integrarle via via con costrutti nuovi  secondo le necessità di progettazione e interpretazione del lavoro sperimentale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==&gt;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ssume rilievo la proposta e la verifica di strumenti teorici (di progettazione e interpretazione) nuovi, in rapporto continuo con il lavoro sperimentale di lungo perio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condo tradizioni culturali e di ricerca diver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lla ricerca nord-americana spesso il Metodo include il Quadro teorico, e a volte la Discussione include le Conclusion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condo necessità specifiche d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s. Comparative study; Applicazione nell’insegnamento di risultati di ricerca consolidati; Ricerche sulla valutazione degli apprendim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ntributo che propongo si rivolge a un pub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eressato a sviluppare competenze di ricerca in Didattica della matematica, e a pubblicare su Riviste e volumi importanti i risultati di 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con qualche esperienza di lettura di articoli di ricerca pubblicati su Riviste o volumi “esigenti” (per quanto riguarda la qualità delle cose pubblic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ntributo riguarda le ricerche sperimentali più comuni in Didattica della Matematica e i relativi articoli; cenni verranno fatti anche alle ricerche di tipo “case study”, alle ricerche condotte secondo il paradigma della “grounded theory”, e alle ricerche condotte secondo il paradigma della “ricerca italiana per l’innovazio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TITOLO: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ARE RICERCA E PUBBLICARNE I RISULTATI: ALCUNI REQUISITI DI QUALIT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 riferimento a ricerche di natura sperimenta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 principali requisiti di qualità a cui mi riferisco sono quelli che riguardano problema e domande di ricerca, literature review, quadro teorico, scelte di metodo, analisi dei dati, risultati e conclusioni, e i collegamenti funzionali tra tali componenti di una ricerca, e del relativo artic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tratta di condizion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cessari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qualità di una ricerca e dell'articolo che ne deriva; soddisfarle non è facile, nella conduzione di una ricerca e nella redazione del relativo arti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ezione e il laboratorio annesso costituiranno un continuum, nel senso che cercherò di mettere in evidenza, nella "lezione", i requisiti di qualità; e nel "laboratorio" si sottoporrà ad analisi critica (in base ai criteri individuati) una traccia di articolo, per evidenziare lacune sia  nella ricerca oggetto della pubblicazione, sia nell'articolo in quest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 lezione avrà carattere dialogat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i requisiti di qualità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quale scopo?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 cosa serv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in particolare, la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qua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el pubblicare i risultati di ricer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ffidabilità 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pe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are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ferimento allo stato dell’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serimento in un contesto interna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5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, in particolare, siamo d’accordo che curare la qualità delle proprie pubblicazioni sia importante p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A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rendere accessibi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d altri ricercatori e “mathematics educators” la propria ricerca e i suoi esi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B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iarire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com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la propria ricerca può contribuire all’avanzamento delle conoscenze 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per le ricerche applicative) a un migliore inseg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C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videnziare la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scientificità del proces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ha condotto ai risulta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i parti/aspetti di un proprio articolo devono essere curati IN FUNZIONE di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A), B), 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?                       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&lt;primo approccio genera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Titolo e 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Introd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Literatur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Quadro teo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Met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Presentazione e analisi dei dati disponi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Conclus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Discussione, eventuali implicazioni per l’inseg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ALT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diamo ora analitic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A cosa servono,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come e perché devono essere connessi ad altre parti dell’artico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Titolo e 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Intro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teratur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dro teo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t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zione e analisi dei dati disponi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lus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cussione, eventuali implicazioni per l’inseg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A cosa servono,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come e perché devono essere connessi ad altre parti dell’artico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tolo e 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Literature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Quadro teo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Me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zione e analisi dei dati disponi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lus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cussione, eventuali implicazioni per l’inseg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6676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A cosa servono,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come e perché devono essere connessi ad altre parti dell’artico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tolo e 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teratur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dro teo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t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Presentazione e analisi dei dati dispon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iscussione, eventuali implicazioni per l’inseg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sintesi (in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BLU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no indicati i punti più frequentemente carenti negli articoli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bstract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 fornire informazioni sintetiche sulla problematica di ricerca affrontata, sul tipo di ricerca condotta, sui risultati principali ottenuti, con il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Titol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he richiama alcuni di tali aspet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Introduzion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ve presentare il problema di ricerca con le sue motivazioni (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tra cui la rilevanza matematica e didattic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n cenni essenziali sullo stato dell’arte in proposi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 guidare alla lettura dell’articolo con riferimenti sintetici ai suoi contenuti e al suo filo conduttor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Literature review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ve presentare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lo stato dell’arte relativo al problema di ricerc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modi per affrontarlo e risultati principal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Quadro teori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ve presentare i costrutti teorici (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almeno localmente coerenti, o chiaramente complementa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scelti come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strumenti per trattare il problema di ricerca, e. con riferimento ad essi, i significati delle parole-chiave utilizzate;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e deriva di solito la formulazione di precise Domande di ricerca, da riferire - se possibile- allo Stato dell’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Metodo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 esporre il contesto educativo, il design dell’attività sperimentale (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mostrandone la funzionalità a rispondere alle questioni di ricerca con riferimento al quadro teori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, i tipi di dati raccolti e i relativi criteri di analisi,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n riferimento al Quadro teorico e alle Domande di ricerc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resentazione e analisi dei dat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ve essere condotta con i criteri illustrati nel Meto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Risulta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ono evidenziare ciò che emerge dall’analisi dei dati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n riferimento alle Domande di ricer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Conclusion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vono essere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gently argue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ulla base delle analisi condotte e dei relativi risultati, e devono sinteticamente indicare non solo le risposte alle Domande di ricerca, ma anche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gli elementi di novità rispetto allo Stato dell’ar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ul problema di ricerca affron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Discussion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che in alcuni casi può e deve essere unita alla Conclusioni, può riportare valutazioni anche critiche su vari contenuti dell’articolo (risultati ottenuti e loro limiti, metodo utilizzato, strumenti teorici scelti come riferimento, eventuali discordanze da risultati acquisiti da altri); e indicare eventuali, possibili sviluppi di ricer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Implicazioni didattich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ossono riguardare “piste di lavoro” per l’implementazione in classe dei risultati ottenuti, ai fini del miglioramento dell’insegn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3T16:09:21Z</dcterms:created>
  <dc:creator>Office Mac</dc:creator>
  <dc:description/>
  <dc:language>en-US</dc:language>
  <cp:lastModifiedBy>Office Mac</cp:lastModifiedBy>
  <dcterms:modified xsi:type="dcterms:W3CDTF">2015-06-25T11:11:56Z</dcterms:modified>
  <cp:revision>4</cp:revision>
  <dc:subject/>
  <dc:title>FARE RICERCA E PUBBLICARNE I RISULTATI: ALCUNI REQUISITI DI QUALITA' </dc:title>
</cp:coreProperties>
</file>